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27.jpeg" ContentType="image/jpeg"/>
  <Override PartName="/ppt/media/image12.png" ContentType="image/pn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4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8780-D533-45E4-AA56-B034C0BA1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6A8A-4FE7-4D00-A6C7-4929C6DF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6A9-9861-4F0C-BFF7-5A91EE7F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9B0-9D9C-4B01-ACD2-732F8FA8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F73-A9D8-4F71-952B-CE1CC1CF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02C-33E8-4BF3-A622-B1D7C36A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61B0-CF37-495C-9A9B-49E04429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CCEC-C1F0-452F-B4FB-93048889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1357-4D86-4CF7-8E06-F3BFD3C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48F-505B-4DC4-B6B2-822CD3EE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36E7-9E18-4E9D-B9A6-667DE671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F747-7AB1-4566-8F6E-927EF166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4160-BAE3-4E8B-A16D-5F4ADE0F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95F-6784-4242-85D4-BB1C8EB9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20FC-0378-4AD2-BA77-D067DE3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9790-80E1-4B5C-A46F-44E4C0E1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08E2-17DB-47E2-A329-A2BDF638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BA69-9B23-4E21-91DC-9316066D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4ACB-8B6C-4F9D-8240-4769EBD6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0B95-9A52-4C16-8F8E-C94A8A10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2C59-2FA3-4C21-8DC9-0C4FC9C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1E9F-C068-4DBD-ACB9-F98E3A23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7691-BD36-4B50-B9A4-3F07068F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1795-3E44-4DF7-85F3-9C567EC2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CAF-5D34-4514-B50A-4CD0B48B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C622-5EBD-450D-B6AD-30015AA2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0E81-A932-4D2F-B0F2-56B57E0A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9311-3478-4836-A25B-F41EA9CE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4427-BA59-4A00-A7B0-DA026054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6F0D-291D-40DB-B47C-0198B850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DC33-FBB7-4C70-8A30-85FFA75D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E864-D0F9-4C41-B413-5D2D21D4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B25-F38F-4963-9D7A-349F8853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B11-B0FB-451F-A5B3-8E83648C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B5B-C593-41B4-8012-6CF83B3C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AE3-DF34-4611-AC93-E32D01F6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973-8577-4FA9-ADF9-78A2C6E1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853-169D-41CE-AFB1-BF1AEAE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BD33-1D64-42F4-9B6E-832CDDA8D6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E969-888C-4B89-A3A4-AF7175EFF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1BC-CF24-4B1E-A200-27AB8ADC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58840" y="1700280"/>
            <a:ext cx="87152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Трауматологија</a:t>
            </a:r>
            <a:r>
              <a:rPr b="1" lang="sr-Latn-CS" sz="4400" spc="-1" strike="noStrike">
                <a:solidFill>
                  <a:srgbClr val="0e1e2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у</a:t>
            </a:r>
            <a:r>
              <a:rPr b="1" lang="sr-Latn-CS" sz="4400" spc="-1" strike="noStrike">
                <a:solidFill>
                  <a:srgbClr val="0e1e2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максилофацијалној</a:t>
            </a:r>
            <a:r>
              <a:rPr b="1" lang="sr-Latn-CS" sz="4400" spc="-1" strike="noStrike">
                <a:solidFill>
                  <a:srgbClr val="0e1e2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регији</a:t>
            </a:r>
            <a:r>
              <a:rPr b="1" lang="en-US" sz="4400" spc="-1" strike="noStrike">
                <a:solidFill>
                  <a:srgbClr val="0e1e20"/>
                </a:solidFill>
                <a:latin typeface="Cambria"/>
              </a:rPr>
              <a:t>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8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4200" y="460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ЛВЕОЛАР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тв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ломљ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вој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лоци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атин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стибула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ниј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уд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ч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ују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ату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ат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ник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цеп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D40_x140_L"/>
          <p:cNvPicPr/>
          <p:nvPr/>
        </p:nvPicPr>
        <p:blipFill>
          <a:blip r:embed="rId3"/>
          <a:stretch/>
        </p:blipFill>
        <p:spPr>
          <a:xfrm>
            <a:off x="2786040" y="4214880"/>
            <a:ext cx="2971800" cy="2201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traumatologia01"/>
          <p:cNvPicPr/>
          <p:nvPr/>
        </p:nvPicPr>
        <p:blipFill>
          <a:blip r:embed="rId4"/>
          <a:stretch/>
        </p:blipFill>
        <p:spPr>
          <a:xfrm>
            <a:off x="5857920" y="421488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maxfx"/>
          <p:cNvPicPr/>
          <p:nvPr/>
        </p:nvPicPr>
        <p:blipFill>
          <a:blip r:embed="rId5"/>
          <a:stretch/>
        </p:blipFill>
        <p:spPr>
          <a:xfrm>
            <a:off x="357120" y="4071960"/>
            <a:ext cx="22273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АГИТ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356840"/>
            <a:ext cx="51339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гитал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д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бино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верзал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гитал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е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ољ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а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у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и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сред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из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иј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врд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ршт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в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син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image002"/>
          <p:cNvPicPr/>
          <p:nvPr/>
        </p:nvPicPr>
        <p:blipFill>
          <a:blip r:embed="rId2"/>
          <a:stretch/>
        </p:blipFill>
        <p:spPr>
          <a:xfrm>
            <a:off x="5335560" y="2571840"/>
            <a:ext cx="35704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ТРАНСВЕРЗ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ансверзал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нилатера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атер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во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ort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LeFort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ort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002f"/>
          <p:cNvPicPr/>
          <p:nvPr/>
        </p:nvPicPr>
        <p:blipFill>
          <a:blip r:embed="rId2"/>
          <a:stretch/>
        </p:blipFill>
        <p:spPr>
          <a:xfrm>
            <a:off x="1371600" y="3352680"/>
            <a:ext cx="6400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ТРАНСВЕРЗ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2676fe95dedb1783bfdee79362ef136"/>
          <p:cNvPicPr/>
          <p:nvPr/>
        </p:nvPicPr>
        <p:blipFill>
          <a:blip r:embed="rId2"/>
          <a:stretch/>
        </p:blipFill>
        <p:spPr>
          <a:xfrm>
            <a:off x="1600200" y="1600200"/>
            <a:ext cx="5943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FOR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5435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з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зигомат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 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а: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вили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д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он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а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нтоалвеола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ло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ћ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еб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тер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ер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риформ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н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д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теригомакси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с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омљ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septum n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F10_i300a_L"/>
          <p:cNvPicPr/>
          <p:nvPr/>
        </p:nvPicPr>
        <p:blipFill>
          <a:blip r:embed="rId2"/>
          <a:stretch/>
        </p:blipFill>
        <p:spPr>
          <a:xfrm>
            <a:off x="5413320" y="2421000"/>
            <a:ext cx="37306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1142640"/>
            <a:ext cx="8543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вољ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с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кр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пе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л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узи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д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н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ло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ертогнат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ж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дуже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уч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сеудопрогениј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уш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кр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т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ухваћ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ст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еб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врд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њи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зокож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6814W"/>
          <p:cNvPicPr/>
          <p:nvPr/>
        </p:nvPicPr>
        <p:blipFill>
          <a:blip r:embed="rId2"/>
          <a:stretch/>
        </p:blipFill>
        <p:spPr>
          <a:xfrm>
            <a:off x="1143000" y="4500720"/>
            <a:ext cx="2243160" cy="1985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ClinImagingSci_2012_2_1_28_96543_u5"/>
          <p:cNvPicPr/>
          <p:nvPr/>
        </p:nvPicPr>
        <p:blipFill>
          <a:blip r:embed="rId3"/>
          <a:stretch/>
        </p:blipFill>
        <p:spPr>
          <a:xfrm>
            <a:off x="3929040" y="4500720"/>
            <a:ext cx="26290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512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4857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зигома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рамид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тањ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атин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феноид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тмоид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рим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тмоид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утрашњ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раорби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гоматикомаксила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теригоид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ихов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тер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упљ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LF20_i100_L"/>
          <p:cNvPicPr/>
          <p:nvPr/>
        </p:nvPicPr>
        <p:blipFill>
          <a:blip r:embed="rId2"/>
          <a:stretch/>
        </p:blipFill>
        <p:spPr>
          <a:xfrm>
            <a:off x="4997520" y="2500200"/>
            <a:ext cx="368928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686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ломљ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е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ље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ни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ор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дуж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рат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ж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уш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е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из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мануе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тановљ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венту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епит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врђ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еб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ат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в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раж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ход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нзибилит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n. infraorbitalis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ит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2769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празигомат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кључ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ед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гомати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мпора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а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кодђ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мину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тмоид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ре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оназал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ал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тур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тај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кримал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ми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ал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тмоид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утраш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г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су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ал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рио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ат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теригомаксилар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су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териго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в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кот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ал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ту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мпор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теригомаксилар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су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а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едњ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вој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кси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слоцир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до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тал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вор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ћ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м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бро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фракту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LeFort3c"/>
          <p:cNvPicPr/>
          <p:nvPr/>
        </p:nvPicPr>
        <p:blipFill>
          <a:blip r:embed="rId2"/>
          <a:stretch/>
        </p:blipFill>
        <p:spPr>
          <a:xfrm>
            <a:off x="6472080" y="2000160"/>
            <a:ext cx="26719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FORT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48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ту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ће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ип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ли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оч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лекант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њира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шфеј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h 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дуж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го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мнестич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врд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ључ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hinoliquorrho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стр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та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ас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нт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рв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image030"/>
          <p:cNvPicPr/>
          <p:nvPr/>
        </p:nvPicPr>
        <p:blipFill>
          <a:blip r:embed="rId2"/>
          <a:stretch/>
        </p:blipFill>
        <p:spPr>
          <a:xfrm>
            <a:off x="2714760" y="4429080"/>
            <a:ext cx="3528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-1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и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силофациј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0-70%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5-24%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гомат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9.5-20%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зи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тиоло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обра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ликованиј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и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е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ал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рв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0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збор метода лечења зависи од врсте и места линије прелома, постојања зуба, повреда меких ткива и општег стања повређен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чење изолованог прелома горње вилице без дислокације не представља хируршки проблем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чење се састоји из репозиције и имобилиз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позиција се врши конзервативно или хирурш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зервати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го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е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гов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из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к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в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е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рила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линто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р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уел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миц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ђуви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уч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стављ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и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ича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гатур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ANd9GcRPOcIf9VBKZ-UXdBCTIzIob1LJadhTVZVwJTG-lKNriSmO0UT1"/>
          <p:cNvPicPr/>
          <p:nvPr/>
        </p:nvPicPr>
        <p:blipFill>
          <a:blip r:embed="rId2"/>
          <a:stretch/>
        </p:blipFill>
        <p:spPr>
          <a:xfrm>
            <a:off x="6156360" y="4797360"/>
            <a:ext cx="21067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920" y="1428840"/>
            <a:ext cx="517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т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де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хнолог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вор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лоч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апт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лас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љ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зич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ст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еш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но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кс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и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игну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томс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ро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ључ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јувилич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кс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би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љ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сте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он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раћ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пособ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10006_2003_494_Fig3_HTML"/>
          <p:cNvPicPr/>
          <p:nvPr/>
        </p:nvPicPr>
        <p:blipFill>
          <a:blip r:embed="rId2"/>
          <a:stretch/>
        </p:blipFill>
        <p:spPr>
          <a:xfrm>
            <a:off x="5715000" y="1428840"/>
            <a:ext cx="3117960" cy="264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B9781455705542000174_f017-011-9781455705542"/>
          <p:cNvPicPr/>
          <p:nvPr/>
        </p:nvPicPr>
        <p:blipFill>
          <a:blip r:embed="rId3"/>
          <a:stretch/>
        </p:blipFill>
        <p:spPr>
          <a:xfrm>
            <a:off x="5715000" y="4246560"/>
            <a:ext cx="31384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IMG_1187"/>
          <p:cNvPicPr/>
          <p:nvPr/>
        </p:nvPicPr>
        <p:blipFill>
          <a:blip r:embed="rId2"/>
          <a:stretch/>
        </p:blipFill>
        <p:spPr>
          <a:xfrm>
            <a:off x="457200" y="1600200"/>
            <a:ext cx="3733920" cy="2895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NatlJMaxillofacSurg_2013_4_2_173_127646_f5"/>
          <p:cNvPicPr/>
          <p:nvPr/>
        </p:nvPicPr>
        <p:blipFill>
          <a:blip r:embed="rId3"/>
          <a:stretch/>
        </p:blipFill>
        <p:spPr>
          <a:xfrm>
            <a:off x="4343400" y="160020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SSS_Floor_Repair1"/>
          <p:cNvPicPr/>
          <p:nvPr/>
        </p:nvPicPr>
        <p:blipFill>
          <a:blip r:embed="rId4"/>
          <a:stretch/>
        </p:blipFill>
        <p:spPr>
          <a:xfrm>
            <a:off x="914400" y="4648320"/>
            <a:ext cx="71629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истурен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туре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ож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каз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терату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8-20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аж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олог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овљ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же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пографс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а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вак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ш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докраниј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немар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еђив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1000" y="1557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ож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истуре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ак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сорб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но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се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и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ж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мер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ра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DL00006_105433_1"/>
          <p:cNvPicPr/>
          <p:nvPr/>
        </p:nvPicPr>
        <p:blipFill>
          <a:blip r:embed="rId2"/>
          <a:stretch/>
        </p:blipFill>
        <p:spPr>
          <a:xfrm>
            <a:off x="5857920" y="1785960"/>
            <a:ext cx="2886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МПТ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ОРМ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МОНГОЛО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ПЛО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УШТЕ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В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РБИТ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ЕЖ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П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005f"/>
          <p:cNvPicPr/>
          <p:nvPr/>
        </p:nvPicPr>
        <p:blipFill>
          <a:blip r:embed="rId2"/>
          <a:stretch/>
        </p:blipFill>
        <p:spPr>
          <a:xfrm>
            <a:off x="6143760" y="1500120"/>
            <a:ext cx="2819160" cy="1714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maxillofacial-trauma4"/>
          <p:cNvPicPr/>
          <p:nvPr/>
        </p:nvPicPr>
        <p:blipFill>
          <a:blip r:embed="rId3"/>
          <a:stretch/>
        </p:blipFill>
        <p:spPr>
          <a:xfrm>
            <a:off x="6172200" y="4800600"/>
            <a:ext cx="26575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368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у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бинова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012f"/>
          <p:cNvPicPr/>
          <p:nvPr/>
        </p:nvPicPr>
        <p:blipFill>
          <a:blip r:embed="rId2"/>
          <a:stretch/>
        </p:blipFill>
        <p:spPr>
          <a:xfrm>
            <a:off x="928800" y="3643200"/>
            <a:ext cx="6931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РАКТУР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т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узрок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аж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год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прес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јалн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из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скулар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в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вара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у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д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минант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6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РАКТУР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ЕЛ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6280" y="1152000"/>
            <a:ext cx="8167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р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ход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уктур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обичај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ж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ормит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годи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нок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ушт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во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монголоид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ест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трибуцио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 infraorbitali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пло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fracture-zygoma-and-maxila1"/>
          <p:cNvPicPr/>
          <p:nvPr/>
        </p:nvPicPr>
        <p:blipFill>
          <a:blip r:embed="rId2"/>
          <a:stretch/>
        </p:blipFill>
        <p:spPr>
          <a:xfrm>
            <a:off x="4643280" y="4500720"/>
            <a:ext cx="2724480" cy="204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opy%20of%20DSC00327"/>
          <p:cNvPicPr/>
          <p:nvPr/>
        </p:nvPicPr>
        <p:blipFill>
          <a:blip r:embed="rId3"/>
          <a:stretch/>
        </p:blipFill>
        <p:spPr>
          <a:xfrm>
            <a:off x="1428840" y="4500720"/>
            <a:ext cx="2733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Gray154"/>
          <p:cNvPicPr/>
          <p:nvPr/>
        </p:nvPicPr>
        <p:blipFill>
          <a:blip r:embed="rId2"/>
          <a:stretch/>
        </p:blipFill>
        <p:spPr>
          <a:xfrm>
            <a:off x="5429160" y="1643040"/>
            <a:ext cx="35118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55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ве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ц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ост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рами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а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вил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уњ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уж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т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us frontalis, processus alveolaris, processus zygomaticu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us palatinus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ц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честв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д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РАКТУР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620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бино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буч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отач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уњ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ву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ину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лап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рниј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а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нофталм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лап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фун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rectus inferior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нофталм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ж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тоз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инутив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те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sep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orbit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об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лачи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раћ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к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гзофталм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у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робулб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5685009-large"/>
          <p:cNvPicPr/>
          <p:nvPr/>
        </p:nvPicPr>
        <p:blipFill>
          <a:blip r:embed="rId2"/>
          <a:stretch/>
        </p:blipFill>
        <p:spPr>
          <a:xfrm>
            <a:off x="5500800" y="4429080"/>
            <a:ext cx="3052800" cy="2054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1157"/>
          <p:cNvPicPr/>
          <p:nvPr/>
        </p:nvPicPr>
        <p:blipFill>
          <a:blip r:embed="rId3"/>
          <a:stretch/>
        </p:blipFill>
        <p:spPr>
          <a:xfrm>
            <a:off x="928800" y="4714920"/>
            <a:ext cx="41925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РАКТУР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040" y="131868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о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у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blow-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наж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аткотрај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уп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дара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сн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уд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м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нис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п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гл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дростатск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и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улб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днекс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пор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н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ци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cus minoris resistentiae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егов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спрскав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лап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ксил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едјив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такт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иску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ка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вод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греш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вљањ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в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мо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мографск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нима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image024"/>
          <p:cNvPicPr/>
          <p:nvPr/>
        </p:nvPicPr>
        <p:blipFill>
          <a:blip r:embed="rId2"/>
          <a:stretch/>
        </p:blipFill>
        <p:spPr>
          <a:xfrm>
            <a:off x="5083200" y="2143080"/>
            <a:ext cx="39085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BLOW-OU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РА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480" y="1142640"/>
            <a:ext cx="85532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о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blow-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ж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аткотрај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ар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сн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уд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нис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п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дростатс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лб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некс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пор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н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ци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us minoris resistentiae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го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прска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лап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а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ји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актан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BlowoutFx"/>
          <p:cNvPicPr/>
          <p:nvPr/>
        </p:nvPicPr>
        <p:blipFill>
          <a:blip r:embed="rId2"/>
          <a:stretch/>
        </p:blipFill>
        <p:spPr>
          <a:xfrm>
            <a:off x="1643040" y="4357800"/>
            <a:ext cx="3203640" cy="20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Orbital-floor-r"/>
          <p:cNvPicPr/>
          <p:nvPr/>
        </p:nvPicPr>
        <p:blipFill>
          <a:blip r:embed="rId3"/>
          <a:stretch/>
        </p:blipFill>
        <p:spPr>
          <a:xfrm>
            <a:off x="5715000" y="4357800"/>
            <a:ext cx="2165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00" y="1159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543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ук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фикас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ж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омпикова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ук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рку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тр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зуб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у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е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и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љештењ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рмал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атомс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ци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Z60_i510_S"/>
          <p:cNvPicPr/>
          <p:nvPr/>
        </p:nvPicPr>
        <p:blipFill>
          <a:blip r:embed="rId2"/>
          <a:stretch/>
        </p:blipFill>
        <p:spPr>
          <a:xfrm>
            <a:off x="6143760" y="4664160"/>
            <a:ext cx="27003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2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РЕПОЗИ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СТЕОСИН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4892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ератив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р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еб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бор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еб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б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плор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оч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инути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г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венту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ек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карцер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пози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и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лочиц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констру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ек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плантатима или алопластичним материјал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Z30_ORIF-3point_i305_AB_L"/>
          <p:cNvPicPr/>
          <p:nvPr/>
        </p:nvPicPr>
        <p:blipFill>
          <a:blip r:embed="rId2"/>
          <a:stretch/>
        </p:blipFill>
        <p:spPr>
          <a:xfrm>
            <a:off x="4714920" y="2357280"/>
            <a:ext cx="38862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СТ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Д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JNatScBiolMed_2012_3_2_161_101900_f5"/>
          <p:cNvPicPr/>
          <p:nvPr/>
        </p:nvPicPr>
        <p:blipFill>
          <a:blip r:embed="rId2"/>
          <a:stretch/>
        </p:blipFill>
        <p:spPr>
          <a:xfrm>
            <a:off x="990720" y="1447920"/>
            <a:ext cx="6810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4240" y="1143000"/>
            <a:ext cx="896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ш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стич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столош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зич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ин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иј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н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дљив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ач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влад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ност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к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ул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виј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иб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еб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д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на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ел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а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een st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67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ел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а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аст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ц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пу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р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витљ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оред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наш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еле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у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јед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м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ушај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JIndianSocPedodPrevDent_2011_29_6_104_90758_f1"/>
          <p:cNvPicPr/>
          <p:nvPr/>
        </p:nvPicPr>
        <p:blipFill>
          <a:blip r:embed="rId2"/>
          <a:stretch/>
        </p:blipFill>
        <p:spPr>
          <a:xfrm>
            <a:off x="4865760" y="1484280"/>
            <a:ext cx="374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ч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ебност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ле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и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уп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л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чвасти облик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ч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га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л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гату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ле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и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ован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в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погодн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њ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де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воде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рилат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линт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ови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и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обилиза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обичај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од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640" y="1238400"/>
            <a:ext cx="4768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нт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растањ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узет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а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о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е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л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о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дин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он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ж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мулис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овилич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тодо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говарају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ато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ље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рурш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пози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њ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ћ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те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ме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синтет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теријало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330v54n03-90231933fig4"/>
          <p:cNvPicPr/>
          <p:nvPr/>
        </p:nvPicPr>
        <p:blipFill>
          <a:blip r:embed="rId2"/>
          <a:stretch/>
        </p:blipFill>
        <p:spPr>
          <a:xfrm>
            <a:off x="5143680" y="1214280"/>
            <a:ext cx="3501720" cy="2616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ontempClinDent_2010_1_4_291_76406_f4"/>
          <p:cNvPicPr/>
          <p:nvPr/>
        </p:nvPicPr>
        <p:blipFill>
          <a:blip r:embed="rId3"/>
          <a:stretch/>
        </p:blipFill>
        <p:spPr>
          <a:xfrm>
            <a:off x="5143680" y="3929040"/>
            <a:ext cx="35049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501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тиоло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е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обраћај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тупљ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2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у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%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р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.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руже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обра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тиоло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тупљ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3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tra"/>
          <p:cNvPicPr/>
          <p:nvPr/>
        </p:nvPicPr>
        <p:blipFill>
          <a:blip r:embed="rId2"/>
          <a:stretch/>
        </p:blipFill>
        <p:spPr>
          <a:xfrm>
            <a:off x="6215040" y="3214800"/>
            <a:ext cx="25430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232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МЕХАНИЗА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НАСТАНК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ВР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рект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д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директ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а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си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дностав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олова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п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в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колн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руктурам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јствујућ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нос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сед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мпактни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та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повређ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рактурира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њ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аби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зна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лизи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ту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декват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ндгенограф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ANd9GcTFxWtEZmOMg8qo5YxkFEeRRb-93S1P-BlRkeWzaAAu9zRgfcms"/>
          <p:cNvPicPr/>
          <p:nvPr/>
        </p:nvPicPr>
        <p:blipFill>
          <a:blip r:embed="rId2"/>
          <a:stretch/>
        </p:blipFill>
        <p:spPr>
          <a:xfrm>
            <a:off x="1785960" y="3643200"/>
            <a:ext cx="54100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3960" y="260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83930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мне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истир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таљ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и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јек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ек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гоб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пе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истров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химо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ф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њункти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л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оч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кут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мфиз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њираст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иноликворе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сеудопрогенију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гу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епит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LF20_i210_L"/>
          <p:cNvPicPr/>
          <p:nvPr/>
        </p:nvPicPr>
        <p:blipFill>
          <a:blip r:embed="rId2"/>
          <a:stretch/>
        </p:blipFill>
        <p:spPr>
          <a:xfrm>
            <a:off x="1357200" y="4286160"/>
            <a:ext cx="2975040" cy="2203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untitled1"/>
          <p:cNvPicPr/>
          <p:nvPr/>
        </p:nvPicPr>
        <p:blipFill>
          <a:blip r:embed="rId3"/>
          <a:stretch/>
        </p:blipFill>
        <p:spPr>
          <a:xfrm>
            <a:off x="5357880" y="4227480"/>
            <a:ext cx="33004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5480" y="1142640"/>
            <a:ext cx="87152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ас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нден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иску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рапеу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и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еле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бољ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каз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циј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терс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aters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ј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аназал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упљ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ређе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пун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говарајућ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ографиј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јутеризо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ограф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е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ључ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врд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итрау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Le+Fort+1+CT"/>
          <p:cNvPicPr/>
          <p:nvPr/>
        </p:nvPicPr>
        <p:blipFill>
          <a:blip r:embed="rId2"/>
          <a:stretch/>
        </p:blipFill>
        <p:spPr>
          <a:xfrm>
            <a:off x="1571760" y="4500720"/>
            <a:ext cx="62942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на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асифик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ађ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р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er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1866;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ф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гит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нсверз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бинов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79926-79932-1799897-1875019tn"/>
          <p:cNvPicPr/>
          <p:nvPr/>
        </p:nvPicPr>
        <p:blipFill>
          <a:blip r:embed="rId2"/>
          <a:stretch/>
        </p:blipFill>
        <p:spPr>
          <a:xfrm>
            <a:off x="5715000" y="4508640"/>
            <a:ext cx="3276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5:58:06Z</dcterms:modified>
  <cp:revision>746</cp:revision>
  <dc:subject/>
  <dc:title>Diapositiva 1</dc:title>
</cp:coreProperties>
</file>